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FBE-0558-4B69-B1C5-4A77990B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5CE-22A7-412C-8077-1FE1FB0C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0D8-313B-4A1A-82D5-9798C40F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DE7-FDBC-49F6-B9EE-C7D96FC9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6F18-A8E7-414B-B56F-E4D7A19E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2FEF-2246-408C-8156-EE0984B6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9437-D8CC-45EC-BC26-6574A55A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95DD-AD82-47BC-9AB2-309145DB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1881-8A79-4172-B197-28AB31FA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EA98-5F3B-48F2-83C3-09FC9BAF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6A62-3F54-4E33-94FC-598F4772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D99A-DD9C-41C9-BD90-0FB73521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EAA1-954E-4BDE-8359-0905DA59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125C-78DF-42D1-9F2B-BD611342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CC67-DA5B-4449-BA99-ABD91804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9BC4-630D-47A4-B0D8-66570818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8A7D-A2D9-44AB-AEEF-593917E2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205-E404-4A94-A55F-2E1B579B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DD0-85A6-403C-8C77-A42D7072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AA3-5EE5-492F-BCE8-0C9F62DC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9DBE-36AD-43C3-81C6-F64C9E0E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CF4-BD82-4E2D-A755-A5281163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71A-54B9-4CFF-9500-54CAECB5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3B5-B209-4558-980C-CB7901C3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61A1-EF9A-425C-AA82-9DC6C1572B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9B26-55A3-468D-8899-B266B9442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AUNA  ACVATIC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PONIA –martie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5867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ITUTOR  Chistol Feli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1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9422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8:32:54Z</dcterms:created>
  <dc:creator>pisu</dc:creator>
  <dc:description/>
  <dc:language>en-US</dc:language>
  <cp:lastModifiedBy>pisu</cp:lastModifiedBy>
  <dcterms:modified xsi:type="dcterms:W3CDTF">2007-03-17T18:58:14Z</dcterms:modified>
  <cp:revision>3</cp:revision>
  <dc:subject/>
  <dc:title>FAUNA  ACVATICA</dc:title>
</cp:coreProperties>
</file>